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9B12F-C675-4B69-B4A3-5FD37CE17FF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ente: Art. 16 RG 3293/12 y Arts. 1 y 2 RG 3332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ente: Art. 16 RG 3293/12 y Arts. 1 y 2 RG 3332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ente: Art. 16 RG 3293/12 y Arts. 1 y 2 RG 3332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ente: Art. 16 RG 3293/12 y Arts. 1 y 2 RG 3332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ente: Art. 16 RG 3293/12 y Arts. 1 y 2 RG 3332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: Art. 10 RG 329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E43-55AC-4ED6-A3BD-2D8ADE98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E4E-9754-4BAD-B707-FC3C4FF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3EE-6D46-46CB-A52A-DEB8D2CB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FCA-FF0F-4766-AA36-10CF3D4C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B0EF-0334-4F02-9A03-F50CE489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D112-5345-4EB3-A2BB-D04D18F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B179-310D-4C47-A18C-851DC5AD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1A21-5D1E-4F1D-B3E2-37C90DBC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A0C3-1780-4E81-80DD-8AABC6E8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1A65-EEB1-49CC-B687-6DEF982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545B-A7B1-41A5-9FE7-BA3E4912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4A5-33E0-491B-BD9E-974B21C0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1FA-EA7D-4BE8-8E42-0A0DC8E3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7185-B651-4933-A06C-F2E0603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8500-F020-4722-993F-D6956D1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C347-C8AC-4AD0-A7C5-D706284C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332F-582F-4840-A10C-47502E1B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F5F-A4B1-430A-A8B9-5AF4820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010-0D9B-4AB8-AAB9-A44EFEDD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8FA-EE51-41E9-97C7-C61A942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D28-B6EF-4ABC-85FF-F208EC2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340-E95A-41F8-9F33-70E9B58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2D5-5FF5-4DBF-A8FB-558F0377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517-10E9-4BE4-8032-6721E103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CE6-0D7B-4140-B3B9-CC25BD135E5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C67-BDF4-4544-8545-BA24DF4021D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fip.gob.ar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blioteca.afip.gob.ar/gateway.dll/Normas/Leyes/%20ganancias/tor_c_020628_1997_07_11.xml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fip.gob.ar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fip.gov.ar/home/index.html" TargetMode="External"/><Relationship Id="rId3" Type="http://schemas.openxmlformats.org/officeDocument/2006/relationships/hyperlink" Target="http://www.afip.gov.ar/home/index.html" TargetMode="External"/><Relationship Id="rId4" Type="http://schemas.openxmlformats.org/officeDocument/2006/relationships/hyperlink" Target="http://www.afip.gov.ar/home/index.html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blioteca.afip.gob.ar/gateway.dll/Normas/Leyes/%20ganancias/tor_c_020628_1997_07_11.xml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Arial Rounded MT Bold"/>
              </a:rPr>
              <a:t>RG-AFIP 3293/12</a:t>
            </a: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s-MX" sz="3200" spc="-1" strike="noStrike">
                <a:solidFill>
                  <a:srgbClr val="e5ffff"/>
                </a:solidFill>
                <a:latin typeface="Tahoma"/>
              </a:rPr>
              <a:t>(B.O. 22/3/12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0755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 Rounded MT Bold"/>
              </a:rPr>
              <a:t>PROCEDIMIENTO TRIBUTARIO. TITULOS, ACCIONES, CUOTAS y PARTICIPACIONES SOCIALES. </a:t>
            </a:r>
            <a:r>
              <a:rPr b="0" i="1" lang="es-MX" sz="3200" spc="-1" strike="noStrike">
                <a:solidFill>
                  <a:srgbClr val="ffffff"/>
                </a:solidFill>
                <a:latin typeface="Arial Rounded MT Bold"/>
              </a:rPr>
              <a:t>PERSONAS FISICAS Y SUC. INDIVISAS. REGIMEN DE ACTUALIZACION DE AUTORIDADES SOCIETA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 3293/12</a:t>
            </a:r>
            <a:br>
              <a:rPr sz="4000"/>
            </a:br>
            <a:r>
              <a:rPr b="0" lang="es-MX" sz="4000" spc="-1" strike="noStrike" u="sng">
                <a:solidFill>
                  <a:srgbClr val="e5ffff"/>
                </a:solidFill>
                <a:uFillTx/>
                <a:latin typeface="Tahoma"/>
              </a:rPr>
              <a:t>VIGENCIA desde 26/3/20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TULO 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PLICACIÓ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 DE DICIEMBRE 2011 y sigu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86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 3293/12 </a:t>
            </a: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Título I</a:t>
            </a:r>
            <a:br>
              <a:rPr sz="4000"/>
            </a:br>
            <a:br>
              <a:rPr sz="4000"/>
            </a:br>
            <a:r>
              <a:rPr b="0" lang="es-MX" sz="4000" spc="-1" strike="noStrike" u="sng">
                <a:solidFill>
                  <a:srgbClr val="e5ffff"/>
                </a:solidFill>
                <a:uFillTx/>
                <a:latin typeface="Tahoma"/>
              </a:rPr>
              <a:t>APLICATIVO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3645000"/>
            <a:ext cx="6624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.F.I.P.- DGI – Participaciones societarias, Fondos Comunes de Inversión y fundaciones y asociaciones civiles- Versión 4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 3293/12 </a:t>
            </a: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TITULO I</a:t>
            </a:r>
            <a:br>
              <a:rPr sz="4000"/>
            </a:br>
            <a:r>
              <a:rPr b="0" lang="es-MX" sz="4000" spc="-1" strike="noStrike" u="sng">
                <a:solidFill>
                  <a:srgbClr val="e5ffff"/>
                </a:solidFill>
                <a:uFillTx/>
                <a:latin typeface="Tahoma"/>
              </a:rPr>
              <a:t>Vencimiento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De acuerdo a la terminación del CU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-1 hasta el día 27 de julio,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-3 hasta el día 28 de julio,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4-5 hasta el día 29 de julio,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6-7 hasta el día 30 de julio,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8-9 hasta el día 31 de julio,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Arial Rounded MT Bold"/>
              </a:rPr>
              <a:t>RG-AFIP 3293/1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Rounded MT Bold"/>
              </a:rPr>
              <a:t>TITULO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REGIMEN DE REGISTRACION DE OPER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-AFIP 3293/12 </a:t>
            </a: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TITULO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7993080" cy="45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GISTRAR OPERACIONES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TRANSFERENCIA Y/O CESION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TOTAL O PAR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 TITULO ONEROSO ó GRATUI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-AFIP 3293</a:t>
            </a: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TITULO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1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ITULOS, ACCIONES Y PARTICIPACIONES o EQUIVALENTES EN EL CAPITAL S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ITULOS VALORES C/OFERTA PUBLICA -MODIF. EN CONTROL SOCIE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7640" y="1412640"/>
            <a:ext cx="39700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los SUJETOS inc. a) y b) art. 49 LG y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asociaciones civiles no comprendidas en 3 inc. a) del 69 L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entidades constituidas o ubicadas en el exterior realizadas por personas físicas o suc.indiv. del paí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RG 3293/1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JETOS QUE DEBEN REGISTRAR EN FOR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CURR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0273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DEDOR O CEDENTE y ADQUIRENTE O CESION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CRIBANO DE REGIST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S inc a) y b) art. 49 LG y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Asoc. Civiles no comprendidas en el inc a) art. 6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722760" y="1341360"/>
            <a:ext cx="20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TULO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 3293/12</a:t>
            </a:r>
            <a:br>
              <a:rPr sz="4000"/>
            </a:br>
            <a:r>
              <a:rPr b="0" lang="es-MX" sz="4000" spc="-1" strike="noStrike" u="sng">
                <a:solidFill>
                  <a:srgbClr val="e5ffff"/>
                </a:solidFill>
                <a:uFillTx/>
                <a:latin typeface="Tahoma"/>
              </a:rPr>
              <a:t>VIGENCIA desde 26/3/20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ITULO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PLICA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 PARTIR DEL 1 DE ENERO DE 2012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86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 3293/12 </a:t>
            </a: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Título II</a:t>
            </a:r>
            <a:br>
              <a:rPr sz="4000"/>
            </a:br>
            <a:r>
              <a:rPr b="0" lang="es-MX" sz="4000" spc="-1" strike="noStrike" u="sng">
                <a:solidFill>
                  <a:srgbClr val="e5ffff"/>
                </a:solidFill>
                <a:uFillTx/>
                <a:latin typeface="Tahoma"/>
              </a:rPr>
              <a:t>TRANSFERENCIA ELECTRONIC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6000" y="3357720"/>
            <a:ext cx="6840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tio web (</a:t>
            </a:r>
            <a:r>
              <a:rPr b="0" lang="es-MX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afip.gob.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) servic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Lucida Console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Lucida Console"/>
              </a:rPr>
              <a:t>REGISTRACION DE TRANSFERENCIAS DE PARTICIPACIONES SOCIETARIA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Arial Rounded MT Bold"/>
              </a:rPr>
              <a:t>RG-AFIP 3293/12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Rounded MT Bold"/>
              </a:rPr>
              <a:t>TITULO I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REGIMEN ACTUALIZACION DE AUTORIDADES SOCIETA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RG-AFIP 3293/12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NTECED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G 4120 (1996 a 20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G 2763 (2010 a 20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-AFIP 3293/12 </a:t>
            </a: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TITULO I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) Los sujetos de los incisos a) y b) del artículo 49 de la L.G.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s asociaciones civiles y fundacion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mprendidas en el punto 3. del inciso a) del artículo 69 de la L.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) Los fondos comunes de inversión no comprendidos en el punto 7 del inciso a) del citado artículo 69 de la L.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 3293/12</a:t>
            </a:r>
            <a:br>
              <a:rPr sz="4000"/>
            </a:br>
            <a:r>
              <a:rPr b="0" lang="es-MX" sz="4000" spc="-1" strike="noStrike" u="sng">
                <a:solidFill>
                  <a:srgbClr val="e5ffff"/>
                </a:solidFill>
                <a:uFillTx/>
                <a:latin typeface="Tahoma"/>
              </a:rPr>
              <a:t>VIGENCIA desde 26/3/20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ITULO I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PLICA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 PARTIR DEL 1 DE ENERO DE 2012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86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RG 3293/12 </a:t>
            </a:r>
            <a:br>
              <a:rPr sz="4000"/>
            </a:b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Título III</a:t>
            </a:r>
            <a:br>
              <a:rPr sz="4000"/>
            </a:br>
            <a:r>
              <a:rPr b="0" lang="es-MX" sz="4000" spc="-1" strike="noStrike" u="sng">
                <a:solidFill>
                  <a:srgbClr val="e5ffff"/>
                </a:solidFill>
                <a:uFillTx/>
                <a:latin typeface="Tahoma"/>
              </a:rPr>
              <a:t>TRANSFERENCIA ELECTRONIC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3357720"/>
            <a:ext cx="6840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itio web (</a:t>
            </a:r>
            <a:r>
              <a:rPr b="0" lang="es-MX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afip.gob.ar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) servic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CTUALIZACION AUTORIDADES SOCIETARIA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ervicios informátic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"Registración de Transferencias de Participaciones Societarias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ctualización Autoridades Societaria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sponibles en el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tio "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eb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"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 la AFI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l dí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1 de julio de 2012, inclusiv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IMPORTAN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formación correspondiente 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égimen de registración de operacion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tualización de autoridades societaria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el período comprendido ent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1/1/12 y el 15/07/12, inclusiv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drá suministrarse hasta 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31 de agosto de 2012, inclus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e5ffff"/>
                </a:solidFill>
                <a:uFillTx/>
                <a:latin typeface="Tahoma"/>
              </a:rPr>
              <a:t>RG 3293/1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AN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EY 11683 t.o. 1998 y modi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RG-AFIP 3293/1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GIMEN DE INFORMACION ANUAL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Título 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GIMEN DE REGISTRACION DE OPERACIONES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Título 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GIMEN DE ACTUALIZACION DE AUTORIDADES SOCIETARIAS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Título I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Arial Rounded MT Bold"/>
              </a:rPr>
              <a:t>RG-AFIP 3293/12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Rounded MT Bold"/>
              </a:rPr>
              <a:t>TITULO 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REGIMEN DE INFORMAC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0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ujetos obligados a informar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) Los sujetos de los incisos a) y b) del artículo 49 de la Ley de Impuesto a las Ganancias.</a:t>
            </a: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Las asociaciones civiles y fundaciones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no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prendidas en el punto 3. del inciso a) del artículo 69 de la Ley de Impuesto a las Gananci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) Los fondos comunes de inversión no comprendidos en el punto 7 del inciso a) del citado artículo 69 de la Ley de Impuesto a las Ganancias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) Personas físicas domiciliadas en el paí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) Sucesiones indivisas radicadas en el m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nformar respecto de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titularidad o participación en el capital social o equivalente proveniente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Lucida Console"/>
              </a:rPr>
              <a:t>Personas físicas y suc. indivisas, Sociedades, empresas, establecimientos estables, patrimonios de afectación o explotación domiciliados, radicados o ubicados  en el exterior u o</a:t>
            </a:r>
            <a:r>
              <a:rPr b="0" i="1" lang="es-MX" sz="2000" spc="-1" strike="noStrike" u="sng">
                <a:solidFill>
                  <a:srgbClr val="ffffff"/>
                </a:solidFill>
                <a:uFillTx/>
                <a:latin typeface="Lucida Console"/>
              </a:rPr>
              <a:t>tros sujetos</a:t>
            </a:r>
            <a:r>
              <a:rPr b="0" i="1" lang="es-MX" sz="2000" spc="-1" strike="noStrike" u="sng">
                <a:solidFill>
                  <a:srgbClr val="ffffff"/>
                </a:solidFill>
                <a:uFillTx/>
                <a:latin typeface="Script MT Bol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sociedades controladas, controlantes, y/o vincul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directores, gerentes, administradores, síndicos y miembros del consejo de vigila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apoder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trimonio neto al 31 de diciembre del año por el cual se presenta la información y al cierre del último ejercicio finalizado a la fech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311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Sujetos exceptuados de actuar como agentes de información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NEXO I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sociaciones cooperadoras escola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n autorización extendida por autoridad públ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sociaciones, fundaciones y demás personas de existencia ideal sin fines de lucr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 que destinen los fondos que administren y/o dispongan a la promoción de actividades hospitalarias bajo la órbita de la administración pública (nacional, provincial o municipal) y/o de bomberos voluntarios oficialmente reconoci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munidades indígen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scriptas en el Registro Nacional de Comunidades Indígenas, y asociaciones sin fines de lucro inscriptas en la Inspección General de Justicia, siempre que destinen sus fondos al mantenimiento y fomento de la cultura indígena, cuyos integrantes resulten ser miembros activos de alguna comunidad aborig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311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Sujetos exceptuados de actuar como agentes de información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(cont.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NEXO I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7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stituciones religios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scriptas en el registro existente en el ámbito de la Secretaria de Culto de la N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) Las uniones temporarias de empresas y las agrupaciones de colabo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) Las sociedades, empresas y similares cuyo capital, a la fecha que corresponda la información, pertenezca totalmente al Estado nacional, provincial o municip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) Empresas unipers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) Fideicomis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DATOS A INFORMAR</a:t>
            </a:r>
            <a:br>
              <a:rPr sz="4400"/>
            </a:b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Art.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UIT – CUIL – C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mbre y apellido – razón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ntidad de acciones, cuotas, etc. (valuados s/L.2506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aldos deudores o acreedores para el agente de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7:53:34Z</dcterms:created>
  <dc:creator> </dc:creator>
  <dc:description/>
  <dc:language>en-US</dc:language>
  <cp:lastModifiedBy>olopez</cp:lastModifiedBy>
  <dcterms:modified xsi:type="dcterms:W3CDTF">2012-06-28T14:44:00Z</dcterms:modified>
  <cp:revision>50</cp:revision>
  <dc:subject/>
  <dc:title>¿Quiénes se encuentran obligados a informar? </dc:title>
</cp:coreProperties>
</file>